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053B-132B-43D2-8F94-DE6EF857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B42-88BE-45C2-9D94-CF344421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A32C-B50E-4345-97A8-3A8035D5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EEE5-E4E1-49AB-8BC2-A6A02F3C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334C-312D-4291-82C5-6E834AA6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8B81-C7AA-43FB-AF45-4608981E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351E-C523-4A4C-9680-14296B5E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7C11-4321-402D-8522-431D3553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C31-0B69-4EDF-A3BB-702DD11E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C578-316A-4403-83E3-5CD95EEB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DF94-45D2-4B0A-95D8-E155914F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F88-88B4-4D12-956F-A8D5419D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47C1-5DC9-4EA6-B6B4-380929E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B859-9EDB-4001-AA04-6F52E03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D7B6-2FF5-4117-876E-B77E1AAB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C91B-F08C-472C-BCF0-5FF6985F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875-159A-45E2-A162-EFBB3282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024-2074-4470-93FE-1F3C17B5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A7E-38FA-4A62-94A5-88C5095C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15D-F3D6-46DC-A4C4-9A892753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DF5-5E95-4074-973F-5B3D05D4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70D-EB62-487A-A94E-257E54C8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FC2-EE6B-4F15-A110-BDD8AAC4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08D-BC0F-4C2C-B818-8A0F1D3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2B3-F660-4242-84F7-C1CCAEFF9D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F9D6-4F1E-4D7F-8089-1C8BE19E02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0B76087-F624-4032-8602-A9F7B6F42C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hilem. 4-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0D4108AF-8885-48C9-9576-90752705C2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9D51F77A-EDE8-41A7-85ED-2525759559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F22A830C-CCEF-4806-AF2F-9DEA6803DB4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A3390587-6451-487A-BBBA-3464094E04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Ηερῳδης ἐλεγ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442E9F0D-6195-44C6-B93C-3B93A8A93FC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ED8CA99-909E-487A-975A-0765F7A2CD2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D086C94B-53A3-46DD-9086-844E10935B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 flipH="1">
            <a:off x="7429680" y="4483080"/>
            <a:ext cx="31680" cy="47304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C07B2694-18BD-428E-8E6E-E869119A77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683E850D-63B6-431C-8F7A-643A3DCE91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E8D55D6F-520C-404F-9B55-8069F2DBE6E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med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DFD74B13-FE9F-4688-B6FC-96082012757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's easy to mix up the Future Indicative and the Aorist Imperative (both have a s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451B449-3681-44B1-BB8A-30FF1D2B88F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17D6C302-2F41-4550-B6BB-2593974E5BA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EEB582A-B8B1-4B52-9A47-789D39A82F6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equivalent of 'to say' in English. This is clearly closely related to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leg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E97742E-B367-461B-BD23-5E357F9F62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88F0CFE-41F8-488C-8E79-BBFD1423D9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8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mperative, the Aorist Infinitive has a s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w verbs follow the normal rules: filein, filhs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F27C9270-BA2E-4096-B504-ADD49B46EC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8-09-07T14:29:35Z</dcterms:modified>
  <cp:revision>49</cp:revision>
  <dc:subject/>
  <dc:title>Slide 1</dc:title>
</cp:coreProperties>
</file>